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1.jpeg" ContentType="image/jpeg"/>
  <Override PartName="/ppt/media/image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.wmf" ContentType="image/x-wmf"/>
  <Override PartName="/ppt/media/image10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6.png" ContentType="image/png"/>
  <Override PartName="/ppt/media/image8.wmf" ContentType="image/x-wmf"/>
  <Override PartName="/ppt/media/image12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4EC9-E5A5-4DC1-A5C3-CA580D892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2105-F5EF-4152-B522-DC4DDB711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B927-63EB-4682-B052-777D7264D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5436-6031-4974-A6D1-A5BF22918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17B8-5694-448A-8A1D-CA67DC1D3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3FAD-55D2-41BF-BEF3-A195686D5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068D-72B6-4C96-A3A5-4A8AC23CE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FD89-81FF-46C5-A1FB-26A685737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A17F-035A-4022-8245-A1AF76B2D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14FD-3C59-4751-82FA-7FBB20D7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3ACB-0FF7-43D3-AC72-9201B942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B57F-A320-443D-BB9B-E104C03D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5865C-A972-4C54-B38C-611A8B6F87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ΣΤΑΤΙΣΤΙΚΗ ΕΠΕΞΕΡΓΑΣΙΑ ΔΕΔΟΜΕΝΩ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116000" y="1496880"/>
            <a:ext cx="6624720" cy="33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ΓΡΑΦΙΚΗ ΑΠΕΙΚΟΝΙΣΗ ΤΩΝ ΝΕΩΝ ΕΡΓΩΝ ΚΑΙ ΤΩΝ ΟΛΟΚΛΗΡΩΜΕΝΩΝ ΕΡΓΩ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7417080" cy="47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ΑΔΕΙΓΜΑ ΕΠ ΑΛΙΕΙ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47560" y="1852560"/>
            <a:ext cx="8048880" cy="40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525680"/>
            <a:ext cx="8229600" cy="33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415880"/>
            <a:ext cx="8229600" cy="35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ΠΑΡΑΔΕΙΓΜΑ ΠΕΠ ΑΝΑΤΟΛΙΚΗΣ ΜΑΚΕΔΟΝΙΑΣ ΚΑΙ ΘΡΑΚΗ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47560" y="1852560"/>
            <a:ext cx="8048880" cy="40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525680"/>
            <a:ext cx="8229600" cy="33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252360" y="1268280"/>
            <a:ext cx="958680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ΕΔΟΜΕΝΑ ΑΠΟΤΥΠΩΜΕΝΑ ΓΕΩΓΡΑΦΙΚ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55640" y="366840"/>
            <a:ext cx="838836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ΟΜΑΔΟΠΟΙΗΣΗ ΕΡΓΩΝ ΜΕ ΤΗ ΜΕΘΟΔΟ ΑΝΑΛΥΣΗΣ ΣΥΣΤΑΔΩΝ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USTER ANALYSIS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842472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ΧΡΟΝΟΣ ΕΝΤΑΞΗΣ ΤΩΝ ΕΡΓΩ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747800" y="1600200"/>
            <a:ext cx="5648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ΟΣΟΣΤΟ ΣΥΜΒΑΣΙΟΠΟΙΗΣΗΣ ΤΩΝ ΕΡΓΩ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747800" y="1600200"/>
            <a:ext cx="5648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ΟΣΟΣΤΟ ΠΛΗΡΩΜΩΝ ΕΠΙ ΤΩΝ ΣΥΜΒΑΣΕΩ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747800" y="1600200"/>
            <a:ext cx="5648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ΟΜΑΔΕΣ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76360" y="1989000"/>
            <a:ext cx="618192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595520" y="819000"/>
            <a:ext cx="595296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595520" y="819000"/>
            <a:ext cx="595296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95520" y="819000"/>
            <a:ext cx="595296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7T08:39:06Z</dcterms:created>
  <dc:creator>babis</dc:creator>
  <dc:description/>
  <dc:language>en-US</dc:language>
  <cp:lastModifiedBy>babis</cp:lastModifiedBy>
  <dcterms:modified xsi:type="dcterms:W3CDTF">2006-02-17T14:36:59Z</dcterms:modified>
  <cp:revision>4</cp:revision>
  <dc:subject/>
  <dc:title>ΤΥΠΟΛΟΓΙΑ ΕΡΓΩΝ ΜΕ ΤΗ ΜΕΘΟΔΟ ΑΝΑΛΥΣΗΣ ΣΥΣΤΑΔΩΝ (CLUSTER ANALYSIS)</dc:title>
</cp:coreProperties>
</file>