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0B6-FDE3-4D93-85C8-79275E24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619-6CB3-4D43-A942-16FFC669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8225-F4D8-4585-B996-632CCBE1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23B5-1EEE-4F3D-84B2-AF97B372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B88-F3F4-48BB-AB13-0C2A5FA3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1B4-5F6A-4CD3-88AB-CDF09D1B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4ED-1EAE-4D6A-97A6-3BA359B0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BBD5-107B-49AC-96ED-B0B21D54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491-8D66-469B-AA27-92843625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D33-133F-4C1A-88C4-17FDAA4C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950-5383-4B22-B985-44D3F433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7F76-9EB3-4049-A2E3-30BF935C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7C02-E1BD-4FBB-9246-DDD476255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191592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νημέρωση γραφείων ΟΠΣ 02/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DISCOVE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Έφη Σκορδίλ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Προϊσταμένη Μονάδας Α'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Σχεδιασμός ΟΠΣ &amp; Αξιοποίησης Δεδομένω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-------------------------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ΙΔΙΚΗ ΥΠΗΡΕΣΙΑ ΟΛΟΚΛΗΡΩΜΕΝΟΥ ΠΛΗΡΟΦΟΡΙΑΚΟΥ ΣΥΣΤΗΜΑΤΟΣ (ΟΠΣ) - ΥΠΟΙ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ΑΓΙΑΣ ΦΙΛΟΘΕΗΣ 2, GR-10556 ΑΘΗΝΑ, ΤΗΛ: +30 210 33 19 215, ΦΑΞ: +30 210 33 19 2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132000" y="260280"/>
            <a:ext cx="3121200" cy="1470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03280" y="3933720"/>
            <a:ext cx="64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ΓΙΑ ΤΗΝ ΕΥΟΠ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754 -0.40781 C -0.35452 -0.41637 -0.34775 -0.41198 -0.33021 -0.41105 C -0.3198 -0.40411 -0.31459 -0.40064 -0.30487 -0.39 C -0.30452 -0.38977 -0.2974 -0.3752 -0.29514 -0.3708 C -0.29427 -0.36895 -0.29254 -0.3678 -0.29167 -0.36594 C -0.28907 -0.36086 -0.28646 -0.35554 -0.28438 -0.35045 C -0.27796 -0.33287 -0.27292 -0.31575 -0.26632 -0.29863 C -0.26355 -0.28429 -0.2625 -0.27457 -0.25782 -0.26162 C -0.25695 -0.2489 -0.25539 -0.23872 -0.25417 -0.22623 C -0.25382 -0.17325 -0.25365 -0.12028 -0.25296 -0.06731 C -0.25278 -0.05065 -0.25122 -0.03261 -0.23976 -0.02266 C -0.23507 -0.0037 -0.2132 -0.00046 -0.20122 -4.89244E-006 C -0.16268 0.00139 -0.12414 0.00209 -0.08559 0.00324 C -0.08143 0.02476 -0.08334 0.01157 -0.08195 0.04326 C -0.07796 0.04002 -0.07396 0.03979 -0.06997 0.03702 C -0.06355 0.03262 -0.06129 0.02545 -0.05782 0.01759 C -0.05625 0.01412 -0.05191 0.01018 -0.05191 0.00625 L 4.16667E-006 -4.89244E-006 E">
                                      <p:cBhvr>
                                        <p:cTn id="6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ρχεία: 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ΧΩΡΟΤΑΞΙΚΑ_ΑΠΟΤΕΛΕΣΜΑΤΑ.xls,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ΧΩΡΟΤΑΞΙΚΑ_ΝΔ.pdf, ΧΩΡΟΤΑΞΙΚΑ_ΜΔΔΔ.pdf, ΧΩΡΟΤΑΞΙΚΑ_ΛΟΓΙΚΗ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699768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87280" y="3789360"/>
            <a:ext cx="1656000" cy="360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ΓΙΑ ΤΗΝ ΕΥΟΠ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429-4C70-4665-80FC-E19CC3605B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836640"/>
            <a:ext cx="8064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ΝΕΑ ΠΕΔΙΑ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Στην περιοχή εργασίας «ΕΝΔΟΕΠΙΧΕΙΡΗΣΙΑΚΗ ΠΛΗΡΟΦΟΡΗΣΗ» δημιουργήθηκε φάκελος «Σύνδεση με ΠΔΕ» και περιλαμβάνει τα πεδία της διασύνδεσης του ΚΠΣ με του ΠΔΕ όπως αυτά έχουν διαμορφωθεί στο μενού ΕΝΤΑΞΗ – ΤΡΟΠΟΠΟΙΗΣΗ , Διαχείριση έργων ΚΠΣ, Συνοπτικό Τεχνικό Δελτί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ΓΙΑ ΤΗΝ ΕΥΟΠ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E491-4908-471D-90C3-3A0F84D367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5329440" cy="3583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21450600">
            <a:off x="4932360" y="2636640"/>
            <a:ext cx="1371600" cy="11430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5830" y="2853"/>
                </a:moveTo>
                <a:arcTo wR="-9373" hR="-9373" stAng="-7321295" swAng="-14278705"/>
                <a:lnTo>
                  <a:pt x="0" y="10800"/>
                </a:lnTo>
                <a:arcTo wR="10800" hR="10800" stAng="10800000" swAng="14278705"/>
                <a:lnTo>
                  <a:pt x="17958" y="22246"/>
                </a:lnTo>
                <a:lnTo>
                  <a:pt x="13254" y="21162"/>
                </a:lnTo>
                <a:lnTo>
                  <a:pt x="14338" y="16458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0920" y="4292640"/>
            <a:ext cx="8370720" cy="1324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79280" y="5157720"/>
            <a:ext cx="8371080" cy="63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ΓΙΑ ΤΗΝ ΕΥΟΠ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2F1-50A7-41F0-8CC0-243E76C1F1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229600" cy="4224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692360" y="3068640"/>
            <a:ext cx="194292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734080"/>
            <a:ext cx="60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* Αρχείο ΚΠΣ_ΠΔΕ.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ΓΙΑ ΤΗΝ ΕΥΟΠ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5407-05B9-4859-899C-8F927BFAA0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ΝΟΜΙΚΕΣ ΔΕΣΜΕΥΣΕΙ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ό το μενού των Νομικών Δεσμεύσεων έχει προστεθεί στο φάκελο «Υποέργα – Νομικές Δεσμεύσεις» το πεδίο «Νομοθεσία Ανάθεση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03480" y="1600200"/>
            <a:ext cx="6735600" cy="4525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03640" y="3789360"/>
            <a:ext cx="2953080" cy="1008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ΓΙΑ ΤΗΝ ΕΥΟΠ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54A8-5704-4DF1-BA95-602CF0E307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Αναστολές ΚΠΣ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ό το μενού των Χρηματορροών έχουν προστεθεί στο φάκελο «Υποέργα – Μηνιαία υποέργου» τα πεδία «Αναστολή Πληρωμών (ΝΑΙ –ΟΧΙ)» δηλ. ο χαρακτηρισμός των πληρωμών αν είναι σε αναστολή ή όχι και η «Ημερομηνία αναστολής Πληρωμώ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360" y="2421000"/>
            <a:ext cx="8209080" cy="3666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989680" y="5326200"/>
            <a:ext cx="2016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ΓΙΑ ΤΗΝ ΕΥΟΠ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65E-49F6-4D45-9A89-F7DD5DC04D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Όταν το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παραστατικ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είναι σε αναστολή τότε το ποσό του παραστατικού έχει την ένδειξη ΝΑΙ (είναι σε αναστολή)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3909960" cy="2016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995640" y="2708280"/>
            <a:ext cx="4840560" cy="1081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995640" y="4149720"/>
            <a:ext cx="4824360" cy="129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ΓΙΑ ΤΗΝ ΕΥΟΠ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FBE-4C6F-43FD-819A-FD7D617475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Όταν το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υποέργ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είναι σε αναστολή τότε όλα τα παραστατικά έχουν την ένδειξη ΝΑΙ (είναι σε αναστολή)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7412040" cy="3171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067280" y="4797360"/>
            <a:ext cx="4603680" cy="646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067280" y="5494320"/>
            <a:ext cx="4608360" cy="67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4724280"/>
            <a:ext cx="3024000" cy="18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Αντίστοιχα όταν το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έργο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είναι σε αναστολή τότε όλα τα παραστατικά όλων των υποέργων του έργου θα έχουν την ένδειξη ΝΑΙ (είναι σε αναστολή).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* Αρχείο ANASTOLES.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ΓΙΑ ΤΗΝ ΕΥΟΠ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F32-7995-4C71-AC8B-8378A1463C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Έσοδα έργο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ό το μενού των Χρηματορροών έχει προστεθεί το πεδίο «Έσοδα έργου» στο φάκελο «Έργα – Διοικητικές Διαδικασίες» και ανακτάται το ποσό των εσόδων σε επίπεδο έργ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3160" y="1728720"/>
            <a:ext cx="7535880" cy="4267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616572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* Αρχείο ΕΣΟΔΑ.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ΓΙΑ ΤΗΝ ΕΥΟΠ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D01-3EA9-4CA1-B754-32904122C4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Τι πρόκειται να γίνε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αμένεται η δημιουργία κι ενσωμάτωση στην εφαρμογή το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της θεματικής ενότητας των Ελέγχω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ΓΙΑ ΤΗΝ ΕΥΟΠ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AE63-889D-4F16-9ACD-FC2DC6FA80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4316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ΙΕΡΑΡΧΙ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43160" indent="0">
              <a:spcBef>
                <a:spcPts val="700"/>
              </a:spcBef>
              <a:buNone/>
              <a:tabLst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4316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ΛΗΡΩΜΕΣ ΑΝΑ ΤΑΜΕΙ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43160" indent="0">
              <a:spcBef>
                <a:spcPts val="700"/>
              </a:spcBef>
              <a:buNone/>
              <a:tabLst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4316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ΧΩΡΟΘΕΤΗ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43160" indent="0">
              <a:spcBef>
                <a:spcPts val="700"/>
              </a:spcBef>
              <a:buNone/>
              <a:tabLst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4316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ΝΕΑ ΠΕΔΙ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ΓΙΑ ΤΗΝ ΕΥΟΠ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442-F220-4124-9FC8-FBA2C6462B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578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ΙΕΡΑΡΧΙ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νεργοποιήθηκαν όλες οι ιεραρχίες της Διάστασης Χρόνος για όλες τις Business Areas του Discover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Η Διάσταση Χρόνος έχει ενημερωθεί με τα έτη 1990 - 201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ναφορικά με  τις ιεραρχίες του χρόνου δημιουργήθηκε ένα συγκεντρωτικό exc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(time_table.xls) με τα  πεδία των ημερομηνιών που κατά προτεραιότητα έπρεπε να υλοποιηθούν.</a:t>
            </a:r>
            <a:br>
              <a:rPr sz="2200"/>
            </a:b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Για να μπορεί να γίνει ιεράρχηση κάθε ημερομηνία ενσωματώθηκε σε ένα φάκελο της περιοχής εργασίας με μία λογική αντιστοίχιση της ενότητας που ανήκει στο ΟΠΣ (ΣΤΔΕ, Σύμβαση, Μηνιαίο, Τριμηνιαίο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* Αρχείο ΙΕΡΑΡΧΙΕΣ_time_table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ΓΙΑ ΤΗΝ ΕΥΟΠ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13D-D103-479B-ABB6-445A6FB7451F}" type="slidenum">
              <a:t>3</a:t>
            </a:fld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040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012000" y="3500280"/>
            <a:ext cx="2896920" cy="302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ΓΙΑ ΤΗΝ ΕΥΟΠ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7E2-D519-496A-9C9F-50BB030B0A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5632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814920" cy="4524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20880000">
            <a:off x="179280" y="3192480"/>
            <a:ext cx="717480" cy="287280"/>
          </a:xfrm>
          <a:prstGeom prst="rightArrow">
            <a:avLst>
              <a:gd name="adj1" fmla="val 50000"/>
              <a:gd name="adj2" fmla="val 6243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ΓΙΑ ΤΗΝ ΕΥΟΠ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298-18F7-429E-8EEE-A1C9532B55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8000" y="3068640"/>
            <a:ext cx="3452760" cy="1969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08000" y="0"/>
            <a:ext cx="3452760" cy="3011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08000" y="5084640"/>
            <a:ext cx="3452760" cy="1308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335480" y="0"/>
            <a:ext cx="4808520" cy="3200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345280" y="3213000"/>
            <a:ext cx="3798720" cy="2459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81720" y="1704960"/>
            <a:ext cx="1754280" cy="36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249200"/>
            <a:ext cx="16556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678120"/>
            <a:ext cx="1873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5734080"/>
            <a:ext cx="18716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ΓΙΑ ΤΗΝ ΕΥΟΠ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528-ADA1-42BC-96D9-EB0AA1992A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82 -0.13648 L 2.5E-006 3.52302E-006 E">
                                      <p:cBhvr>
                                        <p:cTn id="4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44 -0.07333 L 2.77778E-007 -2.65325E-006 E">
                                      <p:cBhvr>
                                        <p:cTn id="4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965 -0.14689 L -8.33333E-007 2.42887E-007 E">
                                      <p:cBhvr>
                                        <p:cTn id="4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004 -0.18297 L 2.5E-006 -4.81841E-006 E">
                                      <p:cBhvr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ΠΛΗΡΩΜΕΣ ΑΝΑ ΤΑΜΕΙΟ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ημιουργήθηκαν δύο φάκελοι στην περιοχή εργασίας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ΕΝΔΟΕΠΙΧΕΙΡΗΣΙΑΚΗ ΠΛΗΡΟΦΟΡΗΣΗ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για να μπορούν να εξαχθούν οι πληρωμές ανά ταμείο βάση 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ημερομηνίας καταχώρηση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ή 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ημερομηνία πληρωμής του φορέα υλοποίηση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με τις εξής παραδοχές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πληρωμές δεν καταχωρούνται ανά ταμείο στο ΟΠΣ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ότε γίνετα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αναλογία από το χρηματοδοτικό σχήμ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υ έργου. Επειδή τραβάε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οιχεία από την κάτω ζών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υ χρηματοδοτικού σχήματος αν δε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χει γίνε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κτέλεση υπολογισμών χάνεται το έργο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ειδή η ζώνη αυτή είναι προσβάσιμη από του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χρήστες και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πορούν να αλλάζουν τα δεδομένα οι αναλογίες των πληρωμών ανά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μείο θα γίνονται βάσει των καταχωρήσεων των χρηστών κι όχι της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υτόματης εκτέλεσης υπολογισμών (αν τα έχουν αλλάξει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ΓΙΑ ΤΗΝ ΕΥΟΠ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4E8-A148-430B-9A5E-BFA5AD0F2F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501300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ία πρακτική εφαρμογή της άντλησης πεδίων από αυτούς τους φακέλους είναι η δημιουργία αναφοράς για την παρακολούθηση του κανόνα ν+2.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ρχείο N+2.xls, αποτελέσματα του query και Αρχείο XR_SXHMA_PLHROMES.xls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38680" cy="2905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562200" y="765000"/>
            <a:ext cx="5581800" cy="3878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1557360"/>
            <a:ext cx="3240000" cy="647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ΓΙΑ ΤΗΝ ΕΥΟΠ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847-02E3-4CE1-95F7-CEC669A208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ΧΩΡΟΘΕΤΗ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Έχει ολοκληρωθεί και βρίσκεται σε φάση πιστοποίησης  η εργασία "Ιεραρχίες - Χωροταξικός επιμερισμός Συμβάσεων και Πληρωμών" με ένα νέο φάκελο στην ΕΝΔΟΕΠΙΧΕΙΡΗΣΙΑΚΗ ΠΛΗΡΟΦΟΡΗΣΗ που λέγεται ΧΩΡΟΘΕΤΗΣΕΙ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Η λογική είναι να μπορούμε να δημιουργούμε μία αναφορά σε επίπεδο έργου ή υποέργου με τρόπο χωροθέτησης στο ΕΡΓΟ ή στο ΥΠΟΕΡΓΟ, δηλαδή π.χ. για μία συγκεκριμένη Περιφέρεια (αντίστοιχα Νομό , Δήμο)  θα αντλούνται τα ποσά των Π/Υ, Συμβάσεων, Πληρωμών σε ΣΚ ή ΔΔ αναζητώντας στη βάση όλα τα έργα που είναι χωροθετημένα σ’ αυτή την Περιφέρεια και αθροίζοντας τα ποσά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ΓΙΑ ΤΗΝ ΕΥΟΠ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BF7-0A14-428B-983D-0EF63D7125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1:31:29Z</dcterms:created>
  <dc:creator>efiskor</dc:creator>
  <dc:description/>
  <dc:language>en-US</dc:language>
  <cp:lastModifiedBy>efiskor</cp:lastModifiedBy>
  <dcterms:modified xsi:type="dcterms:W3CDTF">2007-09-10T10:44:33Z</dcterms:modified>
  <cp:revision>24</cp:revision>
  <dc:subject/>
  <dc:title>Διαφάνεια 1</dc:title>
</cp:coreProperties>
</file>